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770-750B-4308-B753-504BB079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A0E3-53C2-4A7F-8847-E4863FB8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53A-03B8-49BC-95E1-B9778A84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FDA-C658-4F59-A96A-9ECF9607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DF53-9351-4F66-9D66-204DCADA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449-D85C-444C-A538-502119D5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2655-A69C-4C0B-B20B-D11A6055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F99E-D2F5-4C03-81E6-555865FA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EB19-F184-4111-9C3A-CB329506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17A-1A25-43C5-9E53-58F01823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07E6-C053-447C-8992-B305A0C8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9B3-60C3-4D90-BA2B-8820775D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C5F0-864D-4F8A-A299-E03E5A9F084B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lzheimermed.com.br/imagens/conceitos%5Cgen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3.bp.blogspot.com/_DB16rCKntqo/Rv_SJXq0fQI/AAAAAAAAEHw/4WpLjFoDqDM/s1600-h/genoma_humano_medium.gif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47680" y="2349360"/>
            <a:ext cx="684864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Forte"/>
              </a:rPr>
              <a:t>Noções Básicas de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Forte"/>
              </a:rPr>
              <a:t>Hereditariedade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Forte"/>
              <a:ea typeface="Fort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2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ooper Black"/>
              </a:rPr>
              <a:t>Cariótipo</a:t>
            </a:r>
            <a:br>
              <a:rPr sz="4000"/>
            </a:br>
            <a:r>
              <a:rPr b="0" lang="pt-PT" sz="4000" spc="-1" strike="noStrike">
                <a:solidFill>
                  <a:srgbClr val="000000"/>
                </a:solidFill>
                <a:latin typeface="Cooper Black"/>
              </a:rPr>
              <a:t>Hum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Baskerville Old Face"/>
              </a:rPr>
              <a:t>Constituído por 22 pares de cromossomas homólogos (</a:t>
            </a:r>
            <a:r>
              <a:rPr b="1" lang="pt-PT" sz="2800" spc="-1" strike="noStrike">
                <a:solidFill>
                  <a:srgbClr val="000000"/>
                </a:solidFill>
                <a:latin typeface="Baskerville Old Face"/>
              </a:rPr>
              <a:t>autossomas</a:t>
            </a:r>
            <a:r>
              <a:rPr b="0" lang="pt-PT" sz="2800" spc="-1" strike="noStrike">
                <a:solidFill>
                  <a:srgbClr val="000000"/>
                </a:solidFill>
                <a:latin typeface="Baskerville Old Face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Baskerville Old Face"/>
              </a:rPr>
              <a:t>O par 23 distingue o homem da mulher (</a:t>
            </a:r>
            <a:r>
              <a:rPr b="1" lang="pt-PT" sz="2800" spc="-1" strike="noStrike">
                <a:solidFill>
                  <a:srgbClr val="000000"/>
                </a:solidFill>
                <a:latin typeface="Baskerville Old Face"/>
              </a:rPr>
              <a:t>heterossoma</a:t>
            </a:r>
            <a:r>
              <a:rPr b="0" lang="pt-PT" sz="2800" spc="-1" strike="noStrike">
                <a:solidFill>
                  <a:srgbClr val="000000"/>
                </a:solidFill>
                <a:latin typeface="Baskerville Old Face"/>
              </a:rPr>
              <a:t> ou cromossoma sexu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adn"/>
          <p:cNvPicPr/>
          <p:nvPr/>
        </p:nvPicPr>
        <p:blipFill>
          <a:blip r:embed="rId1"/>
          <a:stretch/>
        </p:blipFill>
        <p:spPr>
          <a:xfrm>
            <a:off x="4006800" y="0"/>
            <a:ext cx="513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5"/>
          <p:cNvPicPr/>
          <p:nvPr/>
        </p:nvPicPr>
        <p:blipFill>
          <a:blip r:embed="rId1"/>
          <a:stretch/>
        </p:blipFill>
        <p:spPr>
          <a:xfrm>
            <a:off x="6743880" y="0"/>
            <a:ext cx="2400120" cy="2781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Baskerville Old Face"/>
              </a:rPr>
              <a:t>Conceitos important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GENÓTIPO: é a constituição genética de um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                             </a:t>
            </a: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indivídu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FENÓTIPO: é o resultado da interacção do genótipo +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                            </a:t>
            </a: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influência do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LINHAGEM PURA: quando os indivíduos apresentam o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                                        </a:t>
            </a: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caracteres em homozig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HOMOZIGOTO: genes alelos iguais, dominantes 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                                    </a:t>
            </a: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recessivos "AA ou aa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HETEROZIGOTOS: genes alelos diferentes A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Dominância completa"/>
          <p:cNvPicPr/>
          <p:nvPr/>
        </p:nvPicPr>
        <p:blipFill>
          <a:blip r:embed="rId2"/>
          <a:stretch/>
        </p:blipFill>
        <p:spPr>
          <a:xfrm>
            <a:off x="6948360" y="2781360"/>
            <a:ext cx="19432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arvore_genealogica1[1]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8"/>
          <p:cNvSpPr/>
          <p:nvPr/>
        </p:nvSpPr>
        <p:spPr>
          <a:xfrm>
            <a:off x="1619280" y="98748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Desde sempre, as diferenças e semelhanças entre os organismos suscitaram quest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1835280" y="5248440"/>
            <a:ext cx="612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Porque é que os membros de uma espécie 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uniformes quanto a determinadas característica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3" descr="foto"/>
          <p:cNvPicPr/>
          <p:nvPr/>
        </p:nvPicPr>
        <p:blipFill>
          <a:blip r:embed="rId1"/>
          <a:stretch/>
        </p:blipFill>
        <p:spPr>
          <a:xfrm>
            <a:off x="2806560" y="2147760"/>
            <a:ext cx="363708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39640" y="2276640"/>
            <a:ext cx="82296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entury Schoolbook"/>
              </a:rPr>
              <a:t>Hereditariedade - 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é um ramo da Biologia que estuda os mecanismos de  transmissão dos carateres hereditários</a:t>
            </a:r>
            <a:r>
              <a:rPr b="0" lang="pt-PT" sz="2800" spc="-1" strike="noStrike">
                <a:solidFill>
                  <a:srgbClr val="bbe0e3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928800" y="81000"/>
            <a:ext cx="729288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afafd7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Impact"/>
              </a:rPr>
              <a:t>                               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afafd7"/>
                  </a:gs>
                  <a:gs pos="100000">
                    <a:srgbClr val="333399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aphicFrame>
        <p:nvGraphicFramePr>
          <p:cNvPr id="47" name="Object 5"/>
          <p:cNvGraphicFramePr/>
          <p:nvPr/>
        </p:nvGraphicFramePr>
        <p:xfrm>
          <a:off x="6491160" y="944640"/>
          <a:ext cx="230508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1160" y="944640"/>
                    <a:ext cx="2305080" cy="12398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" name="Text Box 6"/>
          <p:cNvSpPr/>
          <p:nvPr/>
        </p:nvSpPr>
        <p:spPr>
          <a:xfrm>
            <a:off x="324000" y="476280"/>
            <a:ext cx="60102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Os elementos que permitem descrever um ser vivo designam-se por </a:t>
            </a:r>
            <a:r>
              <a:rPr b="1" lang="pt-PT" sz="1600" spc="-1" strike="noStrike" u="sng">
                <a:solidFill>
                  <a:srgbClr val="333399"/>
                </a:solidFill>
                <a:uFillTx/>
                <a:latin typeface="Arial"/>
              </a:rPr>
              <a:t>carateres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Cada indivíduo possui um conjunto de carateres que herdou dos seus pais e que se designam por </a:t>
            </a:r>
            <a:r>
              <a:rPr b="1" lang="pt-PT" sz="1600" spc="-1" strike="noStrike" u="sng">
                <a:solidFill>
                  <a:srgbClr val="333399"/>
                </a:solidFill>
                <a:uFillTx/>
                <a:latin typeface="Arial"/>
              </a:rPr>
              <a:t>carateres hereditários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xistem carateres observáveis (1) e não observáveis(2).Ex: cor dos olhos (1), tipo de sangue (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85920" y="2460600"/>
            <a:ext cx="85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 transmissão das características hereditárias é um mecanismo 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universal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(para todas as formas de vid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1523880" y="3075120"/>
            <a:ext cx="3624480" cy="2244600"/>
            <a:chOff x="1523880" y="3075120"/>
            <a:chExt cx="3624480" cy="2244600"/>
          </a:xfrm>
        </p:grpSpPr>
        <p:graphicFrame>
          <p:nvGraphicFramePr>
            <p:cNvPr id="52" name="Object 9"/>
            <p:cNvGraphicFramePr/>
            <p:nvPr/>
          </p:nvGraphicFramePr>
          <p:xfrm>
            <a:off x="1523880" y="3075120"/>
            <a:ext cx="3624480" cy="1141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3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23880" y="3075120"/>
                      <a:ext cx="3624480" cy="1141200"/>
                    </a:xfrm>
                    <a:prstGeom prst="rect">
                      <a:avLst/>
                    </a:prstGeom>
                    <a:ln w="38160">
                      <a:solidFill>
                        <a:srgbClr val="333399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4" name="Object 10"/>
            <p:cNvGraphicFramePr/>
            <p:nvPr/>
          </p:nvGraphicFramePr>
          <p:xfrm>
            <a:off x="1523880" y="4219920"/>
            <a:ext cx="3624480" cy="1099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23880" y="4219920"/>
                      <a:ext cx="3624480" cy="1099800"/>
                    </a:xfrm>
                    <a:prstGeom prst="rect">
                      <a:avLst/>
                    </a:prstGeom>
                    <a:ln w="38160">
                      <a:solidFill>
                        <a:srgbClr val="333399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56" name="Text Box 11"/>
          <p:cNvSpPr/>
          <p:nvPr/>
        </p:nvSpPr>
        <p:spPr>
          <a:xfrm>
            <a:off x="385920" y="5640480"/>
            <a:ext cx="85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s características que os indivíduos manifestam dependem do material genético existente no </a:t>
            </a:r>
            <a:r>
              <a:rPr b="1" lang="pt-PT" sz="1600" spc="-1" strike="noStrike" u="sng">
                <a:solidFill>
                  <a:srgbClr val="333399"/>
                </a:solidFill>
                <a:uFillTx/>
                <a:latin typeface="Arial"/>
              </a:rPr>
              <a:t>núcleo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das suas célul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aixaDeTexto 9"/>
          <p:cNvSpPr/>
          <p:nvPr/>
        </p:nvSpPr>
        <p:spPr>
          <a:xfrm>
            <a:off x="6084720" y="3500280"/>
            <a:ext cx="2808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Nota: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 existem caraterísticas que são próprias de uma espécie e outras que são individuais, o que torna cada indivíduo único e diferente de todos os outr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onceitos%5Cgen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660066"/>
                </a:solidFill>
                <a:latin typeface="Baskerville Old Face"/>
              </a:rPr>
              <a:t>No DNA que constitui os cromossomas que estão no núcleo das célul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404640"/>
            <a:ext cx="8229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Baskerville Old Face"/>
              </a:rPr>
              <a:t>Onde se localiza a informação genét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95280" y="47628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31280" y="397980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entury Schoolbook"/>
              </a:rPr>
              <a:t>O que é o </a:t>
            </a:r>
            <a:r>
              <a:rPr b="1" lang="pt-PT" sz="2400" spc="-1" strike="noStrike">
                <a:solidFill>
                  <a:srgbClr val="800000"/>
                </a:solidFill>
                <a:latin typeface="Century Schoolbook"/>
              </a:rPr>
              <a:t>DNA</a:t>
            </a:r>
            <a:r>
              <a:rPr b="1" lang="pt-PT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000080" y="4500720"/>
            <a:ext cx="77151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Molécula onde se encontra a informação genét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Molécula através da qual o núcleo controla o funcionamento da célu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Duas cadeias de nucleóti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Dupla hél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dnastructure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611280" y="692280"/>
            <a:ext cx="3456000" cy="2382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dnaextracted3"/>
          <p:cNvPicPr/>
          <p:nvPr/>
        </p:nvPicPr>
        <p:blipFill>
          <a:blip r:embed="rId2"/>
          <a:stretch/>
        </p:blipFill>
        <p:spPr>
          <a:xfrm>
            <a:off x="6540480" y="747720"/>
            <a:ext cx="1631880" cy="2176560"/>
          </a:xfrm>
          <a:prstGeom prst="rect">
            <a:avLst/>
          </a:prstGeom>
          <a:ln w="0">
            <a:noFill/>
          </a:ln>
        </p:spPr>
      </p:pic>
      <p:sp>
        <p:nvSpPr>
          <p:cNvPr id="66" name="Line 12"/>
          <p:cNvSpPr/>
          <p:nvPr/>
        </p:nvSpPr>
        <p:spPr>
          <a:xfrm flipH="1" flipV="1">
            <a:off x="4138560" y="1989000"/>
            <a:ext cx="288144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6495480" y="290196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entury Schoolbook"/>
              </a:rPr>
              <a:t>DNA condens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1256400" y="305280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entury Schoolbook"/>
              </a:rPr>
              <a:t>Molécula de D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1044720" y="3684600"/>
            <a:ext cx="745632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800000"/>
                </a:solidFill>
                <a:latin typeface="Century Schoolbook"/>
              </a:rPr>
              <a:t>Nucleótido</a:t>
            </a: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 – molécula (unidade básica do ADN) constituída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um açúcar – desoxirribo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grupo fosfa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uma das seguintes bases azotadas: Timina (T), Adenina (A), Citosina (C) e Guanina (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nucleotide"/>
          <p:cNvPicPr/>
          <p:nvPr/>
        </p:nvPicPr>
        <p:blipFill>
          <a:blip r:embed="rId1"/>
          <a:stretch/>
        </p:blipFill>
        <p:spPr>
          <a:xfrm>
            <a:off x="5435640" y="620640"/>
            <a:ext cx="3024000" cy="263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1" name="Group 12"/>
          <p:cNvGrpSpPr/>
          <p:nvPr/>
        </p:nvGrpSpPr>
        <p:grpSpPr>
          <a:xfrm>
            <a:off x="1042920" y="549360"/>
            <a:ext cx="2035080" cy="2950920"/>
            <a:chOff x="1042920" y="549360"/>
            <a:chExt cx="2035080" cy="2950920"/>
          </a:xfrm>
        </p:grpSpPr>
        <p:pic>
          <p:nvPicPr>
            <p:cNvPr id="72" name="Picture 10" descr="Imagem1"/>
            <p:cNvPicPr/>
            <p:nvPr/>
          </p:nvPicPr>
          <p:blipFill>
            <a:blip r:embed="rId2"/>
            <a:stretch/>
          </p:blipFill>
          <p:spPr>
            <a:xfrm>
              <a:off x="1042920" y="549360"/>
              <a:ext cx="2035080" cy="29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Oval 11"/>
            <p:cNvSpPr/>
            <p:nvPr/>
          </p:nvSpPr>
          <p:spPr>
            <a:xfrm>
              <a:off x="1564920" y="1773360"/>
              <a:ext cx="647280" cy="64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Line 13"/>
          <p:cNvSpPr/>
          <p:nvPr/>
        </p:nvSpPr>
        <p:spPr>
          <a:xfrm flipV="1">
            <a:off x="1835280" y="620640"/>
            <a:ext cx="3600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1908000" y="2421000"/>
            <a:ext cx="3527640" cy="8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95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Baskerville Old Face"/>
              </a:rPr>
              <a:t>G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3610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Baskerville Old Face"/>
              </a:rPr>
              <a:t>…</a:t>
            </a:r>
            <a:r>
              <a:rPr b="0" lang="pt-PT" sz="3200" spc="-1" strike="noStrike">
                <a:solidFill>
                  <a:srgbClr val="000000"/>
                </a:solidFill>
                <a:latin typeface="Baskerville Old Face"/>
              </a:rPr>
              <a:t>é um segmento de DNA e determina uma caracterís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DNA Genes"/>
          <p:cNvPicPr/>
          <p:nvPr/>
        </p:nvPicPr>
        <p:blipFill>
          <a:blip r:embed="rId1"/>
          <a:stretch/>
        </p:blipFill>
        <p:spPr>
          <a:xfrm>
            <a:off x="4356000" y="549360"/>
            <a:ext cx="4578480" cy="5832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0"/>
          <p:cNvSpPr/>
          <p:nvPr/>
        </p:nvSpPr>
        <p:spPr>
          <a:xfrm>
            <a:off x="611280" y="3429000"/>
            <a:ext cx="3609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Baskerville Old Face"/>
              </a:rPr>
              <a:t>…</a:t>
            </a:r>
            <a:r>
              <a:rPr b="0" lang="pt-PT" sz="3200" spc="-1" strike="noStrike">
                <a:solidFill>
                  <a:srgbClr val="000000"/>
                </a:solidFill>
                <a:latin typeface="Baskerville Old Face"/>
              </a:rPr>
              <a:t>os pares de cromossomas possuem o gene para a mesma característica nos dois cromosso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4328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Cooper Black"/>
              </a:rPr>
              <a:t>Genoma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38988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é conjunto de todos os genes huma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genoma_humano_medi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259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9"/>
          <p:cNvSpPr/>
          <p:nvPr/>
        </p:nvSpPr>
        <p:spPr>
          <a:xfrm>
            <a:off x="5211720" y="2781360"/>
            <a:ext cx="3529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Genes alelo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codificam uma informação para a mesma caracter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ex: cor dos olh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ixaDeTexto 1"/>
          <p:cNvSpPr/>
          <p:nvPr/>
        </p:nvSpPr>
        <p:spPr>
          <a:xfrm>
            <a:off x="5192640" y="4292640"/>
            <a:ext cx="345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Os cromossomas de cada par apresentam um conjunto de genes para as mesmas caraterísticas  - 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cromossomas homólo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8:46:50Z</dcterms:created>
  <dc:creator>Angélica Sousa</dc:creator>
  <dc:description/>
  <dc:language>en-US</dc:language>
  <cp:lastModifiedBy>teresacoutinho</cp:lastModifiedBy>
  <dcterms:modified xsi:type="dcterms:W3CDTF">2012-07-02T13:16:49Z</dcterms:modified>
  <cp:revision>54</cp:revision>
  <dc:subject/>
  <dc:title>Diapositivo 1</dc:title>
</cp:coreProperties>
</file>